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EFFD-4107-45BC-A90B-4477602A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770-7F42-4FEF-AE30-78B48E6B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5BE-E52C-4C1D-9469-F34876F5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013-4514-4549-A218-0785DF1D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CF39-429C-4F69-817B-16E61370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470A-5C96-4AC0-9BB5-5C40393B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7263-4FD3-405D-9A5C-DEA6FDF9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3225-677E-455D-A152-D5382D17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D41A-D434-4027-B866-45ECA917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0912-198A-4368-8ECC-23A20292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43DF-4E36-4CC3-94FF-F00EF569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4C9-7F22-4414-8A82-2ABB5B60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22DF-DA97-4018-97E7-956FC61E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1474-006D-43A5-A160-CEF88DB0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B687-476F-481D-9A42-B47D5ED4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9270-96BD-414A-B00A-96A7AD2E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D881-8036-41A6-B6C8-EB9D1DF5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5B9-8821-40C8-99E1-3C35C20D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141-52FA-4399-B143-52B0542E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C87-0BFB-48FD-A525-70A8F7C7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BD1-6458-4012-B594-769E596C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179-202B-40F6-8EB7-5775F6A6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C71-A0F1-4789-8122-486A1931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241-2851-4722-90EC-107EBF70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EB29-3C8F-47DA-A27E-CFD259EF9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97B1-EA69-439F-B5EE-0034B59B43C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yst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all the different standards you’ve ever heard of that are used to measure the amount of stuff in some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ric standard for amount of matter: Grams 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ss is not the same thing as weight!  This becomes important when we start talking gravity and oute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metric system uses seconds (s) as the standard for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ric system uses degrees Celsius (°C) or degrees Kelvin (°K) for measuring temper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re supposed to use Kelvin, but really we usually use Celsi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gain, shout it out!  Metric standar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ric system’s Power of Ten addresses a problem many of you found in your Setting Standards lab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standard for measuring the room is bulky and imprecise for measuring smaller shapes, and what’s good for measuring smaller shapes is tedious when measuring larger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ystem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19320" y="1058760"/>
            <a:ext cx="716256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ystem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is whole thing in your note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brel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d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o - 1000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to - 100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a - 10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)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i - .1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 - .01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i - .001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ystem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DUDCM stands for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the large number end, which is the small number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ach of these is a measurement in meters, tell me which prefix would be best to turn the measurement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ach of these is a measurement in meters, tell me which prefix would be best to turn the measurement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 -&gt; Best to turn into hecto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05 -&gt; Best to turn into centi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00 -&gt; Best to turn into kilo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 -&gt; Best to turn into dek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003 -&gt; Best to turn into milli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-&gt; Best to leave as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verting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at you have a number with one prefix, like millimeters, and you want to know how many meters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I turn 50 millimeters into its equivalent in me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ve you learned in math, or in middle school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verting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 Remember KHDUDCM.  Locate your starting prefix on the scale, and your finishing pref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 Not counting your starting prefix letter, count how many letters are in between the tw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: From M to U is thre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rom H to C is four. 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verting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 Hop the decimal place that many digits in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direction as your movement along the le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: If you counted from K to U, you’ll move the decimal place to the righ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you counted from M to C, you’ll move the decimal place to the left. 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verting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ction: let’s turn 700 millimeters into dek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On KHDUDCM, the starting prefix is M, the finishing prefix is the farthest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hat’s a count of f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verting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ction: let’s turn 700 millimeters into dek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he decimal place starts out at the end of the number.  Hopping it four places to the left (because the letters moved to the left), we get… .07 dek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verting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white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KHDUDCM at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five question quiz for another table on changing metric system prefix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artner writes the quiz paper, the other partner writes the answer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your quiz, and you take the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check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y Concepts Thus Fa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science (and pseudoscience and non-scienc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6 characteristics of sc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able to use PLORNT to analyze a cla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between physical and chemical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variables in an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fair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precision and accura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quantify preci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ble to identify number of sig figs, and do arithmetic with the correct number of sig fi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ble to read an instrument to the correct number of sig fi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quantify accura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ble to calculate percent err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what units the metric system uses for mass, length, area, volume, time, and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the metric system prefi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convert a figure from one prefix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tting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your standard proved to be a difficul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a standard made it easier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de for an accurate stand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ecise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tting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ric system was designed to handle these difficulties.  It’s set up to be the easiest, most precise, and most accurate standard that we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cience, we will always be using the metric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ll the different standards you’ve ever heard of that are used to measure the length or distance of some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ric standard for length: Meters (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ll the different standards you’ve ever heard of that are used to measure the surface area of some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ric standard for surface area: Meters squared (m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back to the lab: why is it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ll the different standards you’ve ever heard of that are used to measure the volume of some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ric standard for volume: Liters (L) OR Meters cubed (m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back to the lab: why is it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2:44:09Z</dcterms:created>
  <dc:creator>Rebecca Stang</dc:creator>
  <dc:description/>
  <dc:language>en-US</dc:language>
  <cp:lastModifiedBy>Rebecca Stang</cp:lastModifiedBy>
  <dcterms:modified xsi:type="dcterms:W3CDTF">2009-10-04T14:54:32Z</dcterms:modified>
  <cp:revision>33</cp:revision>
  <dc:subject/>
  <dc:title>Dimensional Analysis</dc:title>
</cp:coreProperties>
</file>